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camera.wav" ContentType="audio/x-wav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2384-BE7C-428A-B011-319E0B63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4D32-F996-47D0-8533-F4A86006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79B5-E4BB-456E-8FF9-1B03AD41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294E-2D55-4037-8E7D-3D63AF2E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9EAB-2328-4BD8-980A-14E60AAA5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4EBF-7A61-44A5-B8F5-7085404F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A70C-53A4-4FED-BBE0-4AB9AB26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39E6-2911-4FF4-9FBD-2A043EE3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A3EF-0F9F-4647-B5CA-A9D6F47B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37C7-2921-4399-8ECB-E51E891B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BFC9-5263-4673-9ABE-9A647A78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5E29-A01F-431A-B129-2617ABF5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BE29-EDA3-4698-9C60-F8EE9954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5368-54E7-4958-97DD-79297AF8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B443-42E4-4D23-B700-ECF216B5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060A-4C47-415B-8DDB-83C19FDB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ECFA-100F-45C8-A3C7-33EAE1F7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2E53-881A-4DB6-B01C-9E45DD8B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7F14-36BB-49B5-9263-3D286EAB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BB49-B2AF-4320-814A-F1EFD700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1786-FBE1-4674-B418-580E0208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4DB2-ED8B-42BF-85F1-200C71B4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D5C8-0CA4-4918-9B12-7D25813C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6A13-4FB1-4C94-AC98-B4A2F3CE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248520" y="5334120"/>
            <a:ext cx="2895480" cy="1317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7C2D-881C-4B32-B9E8-DFD5FB13A449}" type="datetime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38280" y="662904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05920" y="662904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E9DE-40C9-49EC-AD7E-FD097F799864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160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35232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1EDA-2AAF-4C33-9F2C-2BA977F74ED6}" type="datetime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87ED-D773-4A65-B996-965CF068926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images.google.ca/imgres?imgurl=http://www.solarnavigator.net/history/explorers_history/HMS_Beagle.jpg&amp;imgrefurl=http://www.solarnavigator.net/history/hms_beagle.htm&amp;h=413&amp;w=631&amp;sz=38&amp;hl=en&amp;start=12&amp;um=1&amp;tbnid=ivhbhvnHhlOv6M:&amp;tbnh=90&amp;tbnw=137&amp;prev=/images%3Fq%3Dcharles%2Bdarwin%2BHMS%2BBeagle%26um%3D1%26hl%3Den%26safe%3Dactive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73356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iology 122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 Closer Look into Scienc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vidence cont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2.  Homologous Structures: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Same underlying structures, different functions, different environments &amp; common ancesto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33520" y="2577960"/>
            <a:ext cx="8305560" cy="4280040"/>
            <a:chOff x="533520" y="2577960"/>
            <a:chExt cx="8305560" cy="428004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33520" y="2577960"/>
              <a:ext cx="8305560" cy="428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 txBox="1"/>
            <p:nvPr/>
          </p:nvSpPr>
          <p:spPr>
            <a:xfrm>
              <a:off x="533520" y="2577960"/>
              <a:ext cx="8305560" cy="428004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cc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AC2D-9BC5-4BAC-AD1C-5EC4C22C936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DED6D-46F9-42C9-8E72-ABEAA057B355}" type="datetime1">
              <a:rPr lang="en-US"/>
              <a:t>07/28/26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vidence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3. Vestigial Structures: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6248520" cy="427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0159-7B04-49EB-9747-51F83F4E9D2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609203-4D2C-492E-AEB1-7BDF4F54C0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vidence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66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Embryonic Development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8381880" cy="443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6D21-7297-4FB2-90C7-248E092CD24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D18480-9312-49AC-B2B5-7452352A931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vidence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5. Biochemistry/Physiology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3554640" cy="39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7AB4-602D-440D-A903-B263BE44B7A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3A8A1-55E8-4A62-AD2B-46399174B0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vidence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66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late Techtonics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2697120"/>
            <a:ext cx="5257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Geological the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ontinental masses were one land mass that explains 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closely related species have common ancestors on now separated conti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E65A-84BC-492D-8F64-2D1B7D97C09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085E5-EBC9-4002-B813-A521F56242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marck’s Theo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Use and Disuse”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Use of structure results in evolutio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cquired characteristics”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Disuse results in….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040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09F0-0640-44AD-BF06-663523CC066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1F907-1655-4B5B-AC1D-0CE973D79343}" type="datetime1">
              <a:rPr lang="en-US"/>
              <a:t>07/28/26</a:t>
            </a:fld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8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C2B8-1BC8-4ACD-85C7-82F4E199CE47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B61B6-788B-41FF-AD47-931BCBAB9BD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marck’s Hypothesi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Lamarck does not state how acquired characteristics are inherited!  No support to back his claim. (although many at this time believed in it!)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What do we now know: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n organisms use of a body part does not change the genes the organism carries…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xcept for mutations, genes are passed unchanged from generation to generation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0DB0-800A-4690-8614-6D2605CC9E3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AE3A7-1742-41E2-AC9B-CE0F5C1F96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o is Darwin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50 years after Lamarck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419720" y="1219320"/>
            <a:ext cx="4419360" cy="541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5E7C-92CE-42FC-93A7-90B98B253A6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E2F46-D2A4-4326-859F-817AD1CB468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114480" y="1371600"/>
            <a:ext cx="9372960" cy="5486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HMS Beagl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0"/>
            <a:ext cx="1838160" cy="120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9B57-C0FD-442D-9E23-9212C6237F3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4EFB39-8359-4AEC-B76B-48A4C090DA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Science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Organized way of using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vidence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to learn about the natural world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lso…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ody of knowledge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that scientists have built up after years of using this proces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9818-B453-4BA7-A934-6DCF7138615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D117F-67C9-4AD4-B9D1-7F5ECAA561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arwin &amp; Natural Selec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Darwin published a book called </a:t>
            </a:r>
            <a:r>
              <a:rPr b="0" i="1" lang="en-US" sz="3200" spc="-1" strike="noStrike">
                <a:solidFill>
                  <a:srgbClr val="ff6600"/>
                </a:solidFill>
                <a:latin typeface="Arial"/>
              </a:rPr>
              <a:t>“The Origin of Species by Means of Natural Selection”.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Like Lamarck, Darwin supported the concept of evolution.  However, Darwin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roposed an entirely different mechanism to account for the changes that formed new species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1CF0-22D0-4DBC-A7E9-C0B2820258B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BB1A9-23E8-45AA-A42F-2AF8FC94972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ummary of Darwin’s Theory of Natural Selection: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. In any population, more offspring are produced than will survive and reproduc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. There is competition for resources among offspring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. There is variation of traits within populations of organism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. Some of these traits are more advantageous than other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5. Because organisms with adaptive traits have a greater chance of reproducing, their offspring tend to make up an increasingly larger proportion of the populatio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**The activity of the environment (natural selection) produced adaptation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8A4B-FD99-48C2-9767-64B9D898C5B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DB8C5-9D12-444C-9D72-50A825CABC4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fic Proces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sking a question; making careful observations and collecting precise data;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reating a testable hypothesis;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ing experimen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llecting evidence to test the hypothesis;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nalyzing and interpreting data to accept or reject a hypothesis;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vising a hypothesis based on new evidence and retesting;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reating explanations that describe patterns an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relationships and link evidence to pre-existing knowledge; and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resenting research for review by scientific peer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A944-9A4A-46B3-87D1-39710AC28E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27418-5F2B-4BE3-A1FF-68258224F4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fic Inquiry….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often begins with an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observation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that lead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o a questio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he ultimate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goal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of scientist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is to develop a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deeper understanding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of the natural world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elies on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inference and interpretation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. Ex: understanding the nature of atoms as well as  determining the mechanism for evolution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604D-E18F-462A-9721-E0739FAA2C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662FA-98A4-40FB-9E7A-0958506120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fic Inqui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cience is built on the principle that the same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natural laws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we 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observe today have been operating over time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One way we can add to our knowledge is by developing tools and techniques that will extend this frontier. Examples??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1DEF-9A25-4432-B322-F29B9BD8FE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6ACC8-CF79-47AA-B359-BE59473C6E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ientific Inqui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s we learn more, we can challenge previous assumptio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While scientific ideas are always open to challenge, some ideas withstand the test of time, are supported by an increasing amount of evidence, and become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ell-grounded theories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9CC3-C925-4120-81C9-0AF74F78E2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8C69B-9462-4E23-8645-73D506A55D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volu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e process of change that produces new species from preexisting species is called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VOLUTION!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e theory of evolution provides a scientific explanation for the past and present diversity of life on Earth.  However, it does not explain the ultimate origin of the universe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B4DA-F299-47C0-B2B0-DE93504A8A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376CF-74C2-488B-891E-D66CEFC722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troversial?  Keep in Mind….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cience never provides us with a definitive final answer to any questio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(Evolution is one well supported explanation)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You don’t need to accept evolution to learn biology; but it does mean that no person is fully educated without an understanding of it”. – Kenneth Miller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A93-8977-4F03-B000-CF211CF301C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45F07D-B541-47FA-ABE0-98D6DB9A49A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is the Evidence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Fossils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– sedimentary rock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x: Grand Canyo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mber (fossilized resin)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Frozen Arctic Soil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etrificatio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Fossil Record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ge of Fossils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osition in the rock (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takes approx. 1000 years to form 30 cm of sedimentary rock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5031-291C-49B6-9096-847645569B7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0CE0F-2763-4FC5-99E5-D3A6940490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4:40:16Z</dcterms:created>
  <dc:creator>lisa.holyokewalsh</dc:creator>
  <dc:description/>
  <dc:language>en-US</dc:language>
  <cp:lastModifiedBy>nbdoe</cp:lastModifiedBy>
  <dcterms:modified xsi:type="dcterms:W3CDTF">2008-02-06T16:08:02Z</dcterms:modified>
  <cp:revision>15</cp:revision>
  <dc:subject/>
  <dc:title>Biology 122</dc:title>
</cp:coreProperties>
</file>